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BF8-1179-4D2E-9115-657CDDC2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85A0-1238-4B90-8FC8-948962E8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834-9792-4A6F-A274-AFF72B77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713-CD9C-4AA6-B563-B4F98DB4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78C8-2EA2-4DB7-89ED-CA0CD1AA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0D8D-FB0B-405A-A119-33867BDE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129-951D-41BF-AFCC-12C034C3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26CB-0E15-4F8B-8E12-DC2682C0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3E69-9591-4B84-A779-9297B8DB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D10-79C0-4D4C-AA45-6C3EBA24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4E49-7463-4E8F-B600-170BA576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8A2E-3F62-4A7A-AE83-250FE708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0CE8-BCD4-405B-9F0C-4B7431C75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76720" y="171360"/>
            <a:ext cx="2514600" cy="6553440"/>
            <a:chOff x="3276720" y="171360"/>
            <a:chExt cx="2514600" cy="6553440"/>
          </a:xfrm>
        </p:grpSpPr>
        <p:graphicFrame>
          <p:nvGraphicFramePr>
            <p:cNvPr id="42" name=""/>
            <p:cNvGraphicFramePr/>
            <p:nvPr/>
          </p:nvGraphicFramePr>
          <p:xfrm>
            <a:off x="3276720" y="171360"/>
            <a:ext cx="2514600" cy="236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76720" y="171360"/>
                      <a:ext cx="2514600" cy="236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" name=""/>
            <p:cNvSpPr/>
            <p:nvPr/>
          </p:nvSpPr>
          <p:spPr>
            <a:xfrm>
              <a:off x="3276720" y="171360"/>
              <a:ext cx="2505240" cy="655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76720" y="2533680"/>
              <a:ext cx="2514600" cy="32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Hi There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Well done on choosing a fantastic car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In case you’re not aware, there’s a thriving online community who are committed to promoting the Mitsubishi FTO in Ireland. We share information on every aspect of the car from parts suppliers to performance modifications.We even organise a number of meets each year for those who are really enthusiastic about their FTOs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If you are interested in getting involved, check out </a:t>
              </a:r>
              <a:r>
                <a:rPr b="1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www.fto-ireland.com </a:t>
              </a:r>
              <a:r>
                <a:rPr b="0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and sign up to the Discussion Forums today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Enjoy your FTO</a:t>
              </a:r>
              <a:r>
                <a:rPr b="0" lang="en-GB" sz="1000" spc="-1" strike="noStrike">
                  <a:solidFill>
                    <a:srgbClr val="000000"/>
                  </a:solidFill>
                  <a:latin typeface="PT Script (Unreg.) Rainbow"/>
                  <a:ea typeface="Times New Roman"/>
                </a:rPr>
                <a:t>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6172200" y="171360"/>
            <a:ext cx="2514600" cy="6553440"/>
            <a:chOff x="6172200" y="171360"/>
            <a:chExt cx="2514600" cy="6553440"/>
          </a:xfrm>
        </p:grpSpPr>
        <p:graphicFrame>
          <p:nvGraphicFramePr>
            <p:cNvPr id="47" name=""/>
            <p:cNvGraphicFramePr/>
            <p:nvPr/>
          </p:nvGraphicFramePr>
          <p:xfrm>
            <a:off x="6172200" y="171360"/>
            <a:ext cx="2514600" cy="2360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72200" y="171360"/>
                      <a:ext cx="2514600" cy="236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"/>
            <p:cNvSpPr/>
            <p:nvPr/>
          </p:nvSpPr>
          <p:spPr>
            <a:xfrm>
              <a:off x="6172200" y="171360"/>
              <a:ext cx="2505240" cy="655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172200" y="2533680"/>
              <a:ext cx="2514600" cy="31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Hi There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Well done on choosing a fantastic car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In case you’re not aware, there’s a thriving online community who are committed to promoting the Mitsubishi FTO in Ireland. We share information on every aspect of the car from parts suppliers to performance modifications.We even organise a number of meets each year for those who are really enthusiastic about their FTOs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If you are interested in getting involved, check out </a:t>
              </a:r>
              <a:r>
                <a:rPr b="1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www.fto-ireland.com </a:t>
              </a:r>
              <a:r>
                <a:rPr b="0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and sign up to the Discussion Forums today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Enjoy your FTO</a:t>
              </a:r>
              <a:r>
                <a:rPr b="0" lang="en-GB" sz="1000" spc="-1" strike="noStrike">
                  <a:solidFill>
                    <a:srgbClr val="000000"/>
                  </a:solidFill>
                  <a:latin typeface="PT Script (Unreg.) Rainbow"/>
                  <a:ea typeface="Times New Roman"/>
                </a:rPr>
                <a:t>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9640" y="189000"/>
            <a:ext cx="2514600" cy="6480000"/>
            <a:chOff x="539640" y="189000"/>
            <a:chExt cx="2514600" cy="6480000"/>
          </a:xfrm>
        </p:grpSpPr>
        <p:graphicFrame>
          <p:nvGraphicFramePr>
            <p:cNvPr id="52" name=""/>
            <p:cNvGraphicFramePr/>
            <p:nvPr/>
          </p:nvGraphicFramePr>
          <p:xfrm>
            <a:off x="539640" y="189000"/>
            <a:ext cx="2514600" cy="2334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9640" y="189000"/>
                      <a:ext cx="2514600" cy="233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539640" y="189000"/>
              <a:ext cx="2505240" cy="648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9640" y="2524680"/>
              <a:ext cx="2514600" cy="32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Hi There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Well done on choosing a fantastic car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In case you’re not aware, there’s a thriving online community who are committed to promoting the Mitsubishi FTO in Ireland. We share information on every aspect of the car from parts suppliers to performance modifications.We even organise a number of meets each year for those who are really enthusiastic about their FTOs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If you are interested in getting involved, check out </a:t>
              </a:r>
              <a:r>
                <a:rPr b="1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www.fto-ireland.com </a:t>
              </a:r>
              <a:r>
                <a:rPr b="0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and sign up to the Discussion Forums today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PT Script (Unreg.) Fog"/>
                  <a:ea typeface="Times New Roman"/>
                </a:rPr>
                <a:t>Enjoy your FTO</a:t>
              </a:r>
              <a:r>
                <a:rPr b="0" lang="en-GB" sz="1000" spc="-1" strike="noStrike">
                  <a:solidFill>
                    <a:srgbClr val="000000"/>
                  </a:solidFill>
                  <a:latin typeface="PT Script (Unreg.) Rainbow"/>
                  <a:ea typeface="Times New Roman"/>
                </a:rPr>
                <a:t>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16:48:57Z</dcterms:created>
  <dc:creator>CJ</dc:creator>
  <dc:description/>
  <dc:language>en-US</dc:language>
  <cp:lastModifiedBy>TS</cp:lastModifiedBy>
  <dcterms:modified xsi:type="dcterms:W3CDTF">2004-03-09T19:33:44Z</dcterms:modified>
  <cp:revision>6</cp:revision>
  <dc:subject/>
  <dc:title>FTO Ireland flyer</dc:title>
</cp:coreProperties>
</file>